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7C23-2159-4AEB-BC20-90D82EAD7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C9D0-8D57-4E26-99AD-7A980EB63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4022-DF3B-4053-B2F2-A9FC1D1B6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BC01-2F5B-4BBE-B9F1-A4D0F8113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5DACE-C405-4191-9AB4-6D3C6DE12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0109A-0671-4E32-A012-E4B02BCE8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9A7EC-7697-471F-81C4-88A484137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C49E7-FAE2-42CD-AEA6-0F03E2C5D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D3423-2938-4BA2-8E36-B910B508C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B10BD-C8D6-4488-8B93-0B953B03F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C7EA1-7382-49EC-8C44-9D548A69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E873-3194-4D41-B244-C9559A9FD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9B881-52BA-4DAA-A678-3956BBDE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26B19-0359-4306-863C-6BEBC122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60B8B-4407-4AF6-99E2-32E57D1B2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E2D3A-ACEC-48A2-AF6E-F7BF46477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40A8F-A34F-4E0F-B50D-95EAF9460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72F8F-2F13-48FE-AFB3-4DDBB5A7A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000A4-A9D9-41F9-97D1-A32CABDCE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A85BE-D70D-491B-B57A-EF4ED85A7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04B26-F994-4B40-8B46-C60810003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F63CA-EA5B-4455-9A26-CEFC0E20C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A976-FEF4-4A48-B623-ABBB794BB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F3E14-8C93-4A32-BA1C-4BBF3C1EB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A0989-207C-43C1-B3DF-BCE48ADE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F87A5-8BD0-420A-B4DB-67DB0515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87C0B-7E47-4C23-9A04-34FCAD0E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C3CF1-056C-4206-B503-00C2930F3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C9EAB-3579-4AB9-86C7-A88BC28CC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B944E-B672-4A57-B780-050BD4468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A4692-B572-4D5A-AB5A-9090C8768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9B441-1CCF-4FAE-9F54-8EB335D4B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B4AEF-AA54-4EF2-A723-22A55AD77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A64E-FB95-4F45-869D-73D749F06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4439F-8BEC-4943-9922-1D66BA7EC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A9AC7-6EC3-4FB3-A2AF-E81B79E94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7F8FE-5DC5-45D3-9B5B-E777C50A2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42E75-6168-4123-89FC-A5EBB87E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8D4BE-6831-4659-B336-D4EDF3AC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A60FF-F94F-4888-A9C0-E05D53B8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F00BC-CEDC-4B1E-89B7-A6E988834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A9FF1-31C9-4344-93F1-281784BD7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15FE2-9DB4-4853-B210-600C876B8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8A80-1FC1-49A1-B5DB-C51DA16F2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D2E4-9962-4BE4-9DBB-F5B5E540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DA12-BAE0-4129-8805-4E06AD7F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03B9-0435-443B-92C9-709FEE1A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8D03-5C3A-4C68-811D-94B5998B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23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3 La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842F9-102C-4ED5-9952-3D93087A2A5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3/23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CPSC203- Wee3 La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D753-A068-481A-8950-8D4316B8D3C2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3/23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CPSC203- Wee3 La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A3140-0D3B-430A-812D-68CAB64CBDB5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23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3 La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1278C-8581-46E1-B80B-B6EBFCB1150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603360" y="719280"/>
            <a:ext cx="7864200" cy="20174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2819520"/>
            <a:ext cx="7854840" cy="26668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ceff"/>
                </a:solidFill>
                <a:latin typeface="Constantia"/>
              </a:rPr>
              <a:t>Week 3 Lab1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ceff"/>
                </a:solidFill>
                <a:latin typeface="Constantia"/>
              </a:rPr>
              <a:t>Review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fafc"/>
                </a:solidFill>
                <a:latin typeface="Constantia"/>
              </a:rPr>
              <a:t>Dina A. Said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fafc"/>
                </a:solidFill>
                <a:latin typeface="Constantia"/>
              </a:rPr>
              <a:t>dasaid@ucalgary.ca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or loop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target in object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ment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ify the previous program to accept a list of numbers. Do a for loop to check whether each number in the list is positive, negative, or zer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your program with check([-4,7,0,-1,9]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23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3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23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3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1828800" y="1219320"/>
            <a:ext cx="4572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 check(list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x in li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(x&gt;0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 "Positive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f (x&lt;0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 "Negative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 "Zero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ify the previous program to count the number of even numbers in the lis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23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3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23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3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228600" y="1143000"/>
            <a:ext cx="8001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f check(list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unt=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x in lis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 (x&gt;0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unt=count+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nt "No. of positive numbers is ", cou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athematical  opera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se that x= 7, y =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= x + y =9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= x-y = 5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= x*y = 14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= x / y = 3  (because both of them are integer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= 7.0 / 2.0 =  7 / 2.0 = 7.0 / 2 = 3.5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= x % y = 1 (the reminder of the divisio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23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3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od operation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sult in the reminder of the divis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%2= 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%2 =1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 % 3 =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 % 3 = 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% 3 = 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know if y is divisible by x, check if  y % x =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is even if x % 2=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is odd if  x% 2 =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23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3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ot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2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=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 = z+ x  = 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+= x = 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=z+x   is the same as   z+=x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23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3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arameters pass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 myFunc(name, ID)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 name, I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u execute myFunc in the black window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Func(“John”, 26378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 printList(myList)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i in myList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3" marL="1151640" indent="-2030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 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you execute printList in the black window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List([1,2,3]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List([7]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23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3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ot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know the length of a list, use command len(myLis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 printList(myList)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 “You passed”, len(myList), “ parameters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i in myList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 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23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3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f-else condi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est1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ments1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if test2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ments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ments3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MP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’t forget : after the cond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qual test, you must use “== “e.g. if x==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no condition after el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1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C3866-B523-4CFC-8482-CBD1FEFBAEF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 function that accepts a number x as a parameter and checks if this number if positive, negative, or zer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nk before looking to answ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23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3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23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3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1523880" y="1219320"/>
            <a:ext cx="4572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f check(x)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(x&gt;0)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nt "Positive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if (x&lt;0)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nt "Negative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s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nt "Zero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15:23:28Z</dcterms:created>
  <dc:creator>Dina</dc:creator>
  <dc:description/>
  <dc:language>en-US</dc:language>
  <cp:lastModifiedBy>dasaid</cp:lastModifiedBy>
  <dcterms:modified xsi:type="dcterms:W3CDTF">2009-03-23T22:19:24Z</dcterms:modified>
  <cp:revision>234</cp:revision>
  <dc:subject/>
  <dc:title>CPSC 203</dc:title>
</cp:coreProperties>
</file>